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</p:sldIdLst>
  <p:sldSz cx="9144000" cy="6858000"/>
  <p:notesSz cx="67611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FBF4C8-32F8-4D37-ACE8-6F547F66490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D7BBA8-0A82-4A4B-9F7C-4EAE324CC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544797-40D9-4E4C-8406-8790F9B4F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F1AF84-00CC-4113-B9C4-5D5689FF140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C3C9D-B32E-407E-B9D1-923858ADFB2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39ED7-F383-4E67-8E12-138FA67D3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5AC60-6218-40E1-9346-FCF14C800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E8085-DE4B-492E-B1D8-D66485727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9406E-9417-42A7-AA8B-11D01A744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15D6A-CC45-4A62-8BFC-B10D97C27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B198C-1F0C-4812-A62C-6323163CA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02A3C9-0C5E-47AE-8E08-CC48BD033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67D35-32BE-4BB9-BF7D-56E06DE46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3F279-A0E0-4DA2-96B5-33859D4AC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910A5-8375-418C-952B-D05EDBE2C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9B504-1244-4407-AC0C-A973254CE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2C864-C029-460D-BA42-250104E1662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A02A09-7B87-4D34-BE34-662222A95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BC6E1F-D93C-4EE7-A338-89B0F53FE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A05DF9-6650-4414-B747-9144F8085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B0F68C-AC17-4C26-AE63-8DA9EEC90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644978-9B1D-4419-8401-2616B6F85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B3AF88-872F-41B6-BAA9-C250B5D74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E060D3-57BF-4818-844E-5D404DBFE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4680" y="950760"/>
            <a:ext cx="91551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Click to edit the outline text format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Second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Third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Four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Fif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Six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Seven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67FC1-9E9F-4B7B-925F-FD0EF7277DFD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" name="Freeform 91"/>
          <p:cNvSpPr/>
          <p:nvPr/>
        </p:nvSpPr>
        <p:spPr>
          <a:xfrm>
            <a:off x="-4680" y="950760"/>
            <a:ext cx="91551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9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15" descr="1"/>
          <p:cNvPicPr/>
          <p:nvPr/>
        </p:nvPicPr>
        <p:blipFill>
          <a:blip r:embed="rId4"/>
          <a:stretch/>
        </p:blipFill>
        <p:spPr>
          <a:xfrm>
            <a:off x="36360" y="409680"/>
            <a:ext cx="9144000" cy="6038640"/>
          </a:xfrm>
          <a:prstGeom prst="rect">
            <a:avLst/>
          </a:prstGeom>
          <a:ln w="0">
            <a:noFill/>
          </a:ln>
        </p:spPr>
      </p:pic>
      <p:grpSp>
        <p:nvGrpSpPr>
          <p:cNvPr id="51" name="Group 4"/>
          <p:cNvGrpSpPr/>
          <p:nvPr/>
        </p:nvGrpSpPr>
        <p:grpSpPr>
          <a:xfrm>
            <a:off x="36360" y="0"/>
            <a:ext cx="9144000" cy="2089080"/>
            <a:chOff x="36360" y="0"/>
            <a:chExt cx="9144000" cy="2089080"/>
          </a:xfrm>
        </p:grpSpPr>
        <p:grpSp>
          <p:nvGrpSpPr>
            <p:cNvPr id="52" name="Group 5"/>
            <p:cNvGrpSpPr/>
            <p:nvPr/>
          </p:nvGrpSpPr>
          <p:grpSpPr>
            <a:xfrm>
              <a:off x="64800" y="0"/>
              <a:ext cx="9115560" cy="1790640"/>
              <a:chOff x="64800" y="0"/>
              <a:chExt cx="9115560" cy="1790640"/>
            </a:xfrm>
          </p:grpSpPr>
          <p:sp>
            <p:nvSpPr>
              <p:cNvPr id="53" name="Rectangle 91"/>
              <p:cNvSpPr/>
              <p:nvPr/>
            </p:nvSpPr>
            <p:spPr>
              <a:xfrm flipV="1">
                <a:off x="6480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4" name="Rectangle 92"/>
              <p:cNvSpPr/>
              <p:nvPr/>
            </p:nvSpPr>
            <p:spPr>
              <a:xfrm flipV="1">
                <a:off x="6480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5" name="Freeform 93"/>
            <p:cNvSpPr/>
            <p:nvPr/>
          </p:nvSpPr>
          <p:spPr>
            <a:xfrm>
              <a:off x="3636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6" name="Group 9"/>
          <p:cNvGrpSpPr/>
          <p:nvPr/>
        </p:nvGrpSpPr>
        <p:grpSpPr>
          <a:xfrm>
            <a:off x="36360" y="4689360"/>
            <a:ext cx="9144000" cy="2168280"/>
            <a:chOff x="36360" y="4689360"/>
            <a:chExt cx="9144000" cy="2168280"/>
          </a:xfrm>
        </p:grpSpPr>
        <p:grpSp>
          <p:nvGrpSpPr>
            <p:cNvPr id="57" name="Group 10"/>
            <p:cNvGrpSpPr/>
            <p:nvPr/>
          </p:nvGrpSpPr>
          <p:grpSpPr>
            <a:xfrm>
              <a:off x="64800" y="5045400"/>
              <a:ext cx="9115560" cy="1812240"/>
              <a:chOff x="64800" y="5045400"/>
              <a:chExt cx="9115560" cy="1812240"/>
            </a:xfrm>
          </p:grpSpPr>
          <p:sp>
            <p:nvSpPr>
              <p:cNvPr id="58" name="Rectangle 96"/>
              <p:cNvSpPr/>
              <p:nvPr/>
            </p:nvSpPr>
            <p:spPr>
              <a:xfrm>
                <a:off x="6480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9" name="Rectangle 97"/>
              <p:cNvSpPr/>
              <p:nvPr/>
            </p:nvSpPr>
            <p:spPr>
              <a:xfrm>
                <a:off x="64800" y="504540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60" name="Group 13"/>
            <p:cNvGrpSpPr/>
            <p:nvPr/>
          </p:nvGrpSpPr>
          <p:grpSpPr>
            <a:xfrm>
              <a:off x="36360" y="4689360"/>
              <a:ext cx="9097920" cy="403560"/>
              <a:chOff x="36360" y="4689360"/>
              <a:chExt cx="9097920" cy="403560"/>
            </a:xfrm>
          </p:grpSpPr>
          <p:sp>
            <p:nvSpPr>
              <p:cNvPr id="61" name="Freeform 99"/>
              <p:cNvSpPr/>
              <p:nvPr/>
            </p:nvSpPr>
            <p:spPr>
              <a:xfrm flipV="1">
                <a:off x="3636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2" name="Freeform 100"/>
              <p:cNvSpPr/>
              <p:nvPr/>
            </p:nvSpPr>
            <p:spPr>
              <a:xfrm flipV="1">
                <a:off x="3636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pic>
        <p:nvPicPr>
          <p:cNvPr id="63" name="Picture 116" descr=""/>
          <p:cNvPicPr/>
          <p:nvPr/>
        </p:nvPicPr>
        <p:blipFill>
          <a:blip r:embed="rId5"/>
          <a:stretch/>
        </p:blipFill>
        <p:spPr>
          <a:xfrm>
            <a:off x="36036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Click to edit the outline text format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Second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Third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Four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Fif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Six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Seven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3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AED29-8A94-407B-AED3-DA61B5E4A205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dt" idx="4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2130480"/>
            <a:ext cx="4535280" cy="237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</a:rPr>
              <a:t>第三章  以社区为中心的护理</a:t>
            </a:r>
            <a:endParaRPr b="1" lang="en-US" sz="48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二、社区护理评估方法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实地考察法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查阅文献法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人群需求信息评估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知情人访谈法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社区讨论法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重点人群法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1.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实地考察法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370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又称 “挡风玻璃调查法”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对社区有一个初步的、快速的、整体的印象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通过开车或走路的方式对自己的管辖区域进行观察，并且做出一个观察报告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能够对社区的环境、布局有一个了解，查找到可能的环境问题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2.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查阅文献法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370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查阅的数据来源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33"/>
                </a:solidFill>
                <a:latin typeface="黑体"/>
              </a:rPr>
              <a:t>人口普查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census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　　　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33"/>
                </a:solidFill>
                <a:latin typeface="黑体"/>
              </a:rPr>
              <a:t>健康统计数据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社区居民的出生、死亡、结婚、离婚、收养等的官方记录文件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33"/>
                </a:solidFill>
                <a:latin typeface="黑体"/>
              </a:rPr>
              <a:t>健康数据的其它来源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每年政府或相关机构在自己感兴趣的领域如：犯罪、住房、就业等进行的各种形式调查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　　　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人口普查（</a:t>
            </a: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ensus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）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56960" y="1371240"/>
            <a:ext cx="8807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指在国家统一规定的时间内，按照统一的方法、统一的项目、统一的调查表和统一的标准时点，对全国人口普遍地、逐户逐人地进行的一次性调查登记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将现在的、本社区的统计数据与过去的、其他不同地区的数据进行比较，分析和解释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通过比较，可以发现社区的独特属性，这些特性为发现社区潜在的健康危险因素提供线索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文献获得途径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这些调查结果、调查报告和统计报告，通常都可从公共图书馆或网络上得到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国家统计局、卫生和计划生育委员会统计中心每年都会编辑国家健康调查数据，以描述整个国家的健康趋势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3.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人群需求信息评估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了解社区人群服务使用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/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需求情况、以及关注热点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只有直接从群体中收集这些信息才会更真实和深刻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3.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人群需求信息评估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）知情人访谈法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社区护士访问社区的主要知情人。他们可以是知识丰富的居民、当地官员或健康服务的提供者。注意：这些人的观点并不代表所有居民的观点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）社区讨论法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举办社区论坛以讨论所选择的问题。社区护士还可以将调查问卷通过邮寄的方式寄给社区居民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）重点人群法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特别是对社区中偏远地方的人群和弱势群体，以及那些欠发达地区的群体的意见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收集评估信息的策略主要由人群的规模、性质、收集信息的目的以及社区护士所拥有的资源所决定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　　　三、社区护理资料分析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资料整理与复核 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资料分析 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报告评估结果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1.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资料整理与复核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将资料进行分类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马斯洛基本需要层次分类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高登功能性健康形态分类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流行病学分类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整理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常采用文字描述法、表格法、图形法等形式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2.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资料分析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9720" y="1371240"/>
            <a:ext cx="8962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分析资料应遵循原则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原始资料要经过统计学处理，文字资料要进行含义的解释与流行病学分析。　　　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去粗取精，去伪存真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进行不同区域的横向比较，不同时间的纵向比较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立足于社区健康护理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学习目标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识记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	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列举社区评估的相关内容以及评估方法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	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描述社区护理目标的确定、计划实施的步骤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理解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	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熟悉对社区进行需求评估的步骤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	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描述社区护理诊断的形成过程、陈述形式以及排序方法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描述社区护理评价的种类和方法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运用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　对社区进行评估，做出护理诊断，并为其制订护理计划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黑体"/>
              </a:rPr>
              <a:t>第二节  社区护理诊断</a:t>
            </a:r>
            <a:endParaRPr b="1" lang="en-US" sz="40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一、形成社区护理诊断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社区护理诊断标准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社区护理诊断的形成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社区诊断的陈述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1.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社区护理诊断标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此诊断反映出社区目前的健康状况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与社区健康需求有关的各种因素均已考虑在内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每个诊断是确切的且合乎逻辑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诊断的做出是以现在获得的各种资料为依据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2.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社区护理诊断的形成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）得出结论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应为以下之一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①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此时无明显健康问题，不需提供促进健康的活动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②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此时虽无明显健康问题，但需要提供促进健康的活动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③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有现存、潜在或是可能的健康问题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④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有现存、潜在或是可能的护理问题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）核实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进一步对相关资料进行分析，核实得出结论的相关因素。如相关因素与得出的结论一致，则社区护理诊断形成，否则需重新得出结论，再核实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　　　</a:t>
            </a: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3.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社区诊断的陈述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黑体"/>
              </a:rPr>
              <a:t>可采用</a:t>
            </a:r>
            <a:r>
              <a:rPr b="1" lang="en-US" sz="2400" spc="-1" strike="noStrike">
                <a:solidFill>
                  <a:srgbClr val="cc0000"/>
                </a:solidFill>
                <a:latin typeface="黑体"/>
              </a:rPr>
              <a:t>PES</a:t>
            </a:r>
            <a:r>
              <a:rPr b="1" lang="zh-CN" sz="2400" spc="-1" strike="noStrike">
                <a:solidFill>
                  <a:srgbClr val="cc0000"/>
                </a:solidFill>
                <a:latin typeface="黑体"/>
              </a:rPr>
              <a:t>公式。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P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Problem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）即健康问题，是对护理对象健康状况简洁清楚的描述。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E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Etiology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）即原因和因果关系，用“与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……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有关”加以描述。它不仅是健康问题的原因，也是护士干预措施的侧重点，所有的计划和相关措施都将以这些原因为工作重点。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S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Sign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／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Symptom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／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define characteristics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）即该诊断所依据的数据和信息。分为主要依据和次要依据。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举例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对某一社区进行健康评估发现该社区幼儿园儿童龋齿率为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80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％。经调查，确认幼儿园小朋友没有养成晚间刷牙习惯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75%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，家长又不督促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80%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，是造成儿童患龋齿的主要原因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社区护理诊断可表示为：幼儿园儿童龋齿：与晚间不刷牙，家长不督促有关。依据：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80%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幼儿园儿童患龋齿，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75%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小朋友没有晚间刷牙习惯，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80%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家长不督促儿童晚间刷牙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二、优先顺序的确定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确定优先顺序遵循以下原则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）严重性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所干预的健康问题对本地区人群有较大危害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）可预防性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即已有有效控制干预对象或危险因素的手段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）有效性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通过护理干预能改善不良健康状况或控制危险因素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）可行性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有可利用的资源，采取的措施能得到政府或机构的关注和支持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　</a:t>
            </a: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Muecke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法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0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）评估因素：</a:t>
            </a:r>
            <a:endParaRPr b="1" lang="en-US" sz="2000" spc="-1" strike="noStrike">
              <a:solidFill>
                <a:srgbClr val="046ca6"/>
              </a:solidFill>
              <a:latin typeface="黑体"/>
            </a:endParaRPr>
          </a:p>
          <a:p>
            <a:pPr marL="341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  ①</a:t>
            </a: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社区对健康问题的认识程度：</a:t>
            </a:r>
            <a:endParaRPr b="1" lang="en-US" sz="2000" spc="-1" strike="noStrike">
              <a:solidFill>
                <a:srgbClr val="046ca6"/>
              </a:solidFill>
              <a:latin typeface="黑体"/>
            </a:endParaRPr>
          </a:p>
          <a:p>
            <a:pPr marL="341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  ②</a:t>
            </a: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社区对解决问题的动机：即居民要求解决问题的主要目的是什么；</a:t>
            </a:r>
            <a:endParaRPr b="1" lang="en-US" sz="2000" spc="-1" strike="noStrike">
              <a:solidFill>
                <a:srgbClr val="046ca6"/>
              </a:solidFill>
              <a:latin typeface="黑体"/>
            </a:endParaRPr>
          </a:p>
          <a:p>
            <a:pPr marL="341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  ③</a:t>
            </a: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健康问题的严重性：</a:t>
            </a:r>
            <a:endParaRPr b="1" lang="en-US" sz="2000" spc="-1" strike="noStrike">
              <a:solidFill>
                <a:srgbClr val="046ca6"/>
              </a:solidFill>
              <a:latin typeface="黑体"/>
            </a:endParaRPr>
          </a:p>
          <a:p>
            <a:pPr marL="341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  ④</a:t>
            </a: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社区可利用的资源：</a:t>
            </a:r>
            <a:endParaRPr b="1" lang="en-US" sz="2000" spc="-1" strike="noStrike">
              <a:solidFill>
                <a:srgbClr val="046ca6"/>
              </a:solidFill>
              <a:latin typeface="黑体"/>
            </a:endParaRPr>
          </a:p>
          <a:p>
            <a:pPr marL="341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  ⑤</a:t>
            </a: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采取措施的预防效果：</a:t>
            </a:r>
            <a:endParaRPr b="1" lang="en-US" sz="2000" spc="-1" strike="noStrike">
              <a:solidFill>
                <a:srgbClr val="046ca6"/>
              </a:solidFill>
              <a:latin typeface="黑体"/>
            </a:endParaRPr>
          </a:p>
          <a:p>
            <a:pPr marL="341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  ⑥</a:t>
            </a: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社区护士解决问题的能力：</a:t>
            </a:r>
            <a:endParaRPr b="1" lang="en-US" sz="2000" spc="-1" strike="noStrike">
              <a:solidFill>
                <a:srgbClr val="046ca6"/>
              </a:solidFill>
              <a:latin typeface="黑体"/>
            </a:endParaRPr>
          </a:p>
          <a:p>
            <a:pPr marL="341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  ⑦</a:t>
            </a: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现有的健康政策与目标：</a:t>
            </a:r>
            <a:endParaRPr b="1" lang="en-US" sz="2000" spc="-1" strike="noStrike">
              <a:solidFill>
                <a:srgbClr val="046ca6"/>
              </a:solidFill>
              <a:latin typeface="黑体"/>
            </a:endParaRPr>
          </a:p>
          <a:p>
            <a:pPr marL="341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  ⑧</a:t>
            </a: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解决问题的迅速性与持续的效果。</a:t>
            </a:r>
            <a:endParaRPr b="1" lang="en-US" sz="2000" spc="-1" strike="noStrike">
              <a:solidFill>
                <a:srgbClr val="046ca6"/>
              </a:solidFill>
              <a:latin typeface="黑体"/>
            </a:endParaRPr>
          </a:p>
          <a:p>
            <a:pPr marL="341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46ca6"/>
              </a:solidFill>
              <a:latin typeface="黑体"/>
            </a:endParaRPr>
          </a:p>
          <a:p>
            <a:pPr marL="341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对评估因素进行“重要性”评价：</a:t>
            </a:r>
            <a:r>
              <a:rPr b="1" lang="en-US" sz="2000" spc="-1" strike="noStrike">
                <a:solidFill>
                  <a:srgbClr val="046ca6"/>
                </a:solidFill>
                <a:latin typeface="黑体"/>
              </a:rPr>
              <a:t>0~2</a:t>
            </a: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分的标准（</a:t>
            </a:r>
            <a:r>
              <a:rPr b="1" lang="en-US" sz="2000" spc="-1" strike="noStrike">
                <a:solidFill>
                  <a:srgbClr val="046ca6"/>
                </a:solidFill>
                <a:latin typeface="黑体"/>
              </a:rPr>
              <a:t>0</a:t>
            </a: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表示不太重要，不需优先处理；</a:t>
            </a:r>
            <a:r>
              <a:rPr b="1" lang="en-US" sz="20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表示有些重要，可以处理；</a:t>
            </a:r>
            <a:r>
              <a:rPr b="1" lang="en-US" sz="20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表示非常重要必须优先处理）。</a:t>
            </a:r>
            <a:endParaRPr b="1" lang="en-US" sz="20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Muecke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法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步骤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①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列出所有社区护理诊断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②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列出所有评估因素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8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条），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③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根据评分标准，评估者分别对各个健康问题的评估因素进行评估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④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总和每个诊断所有评估因素的得分，分数越高代表越需优先处理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324000" y="4944960"/>
          <a:ext cx="8501040" cy="1363680"/>
        </p:xfrm>
        <a:graphic>
          <a:graphicData uri="http://schemas.openxmlformats.org/drawingml/2006/table">
            <a:tbl>
              <a:tblPr/>
              <a:tblGrid>
                <a:gridCol w="2049480"/>
                <a:gridCol w="626760"/>
                <a:gridCol w="628920"/>
                <a:gridCol w="804600"/>
                <a:gridCol w="627120"/>
                <a:gridCol w="627120"/>
                <a:gridCol w="627120"/>
                <a:gridCol w="627120"/>
                <a:gridCol w="628560"/>
                <a:gridCol w="627120"/>
                <a:gridCol w="627120"/>
              </a:tblGrid>
              <a:tr h="3589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问题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认识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动机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严重性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资源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效果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能力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政策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持续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总分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排序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中小学生网瘾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0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2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8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2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青少年吸烟率上升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0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0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0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0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4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3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下岗工人心理问题严重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2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2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2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2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2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12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三、</a:t>
            </a: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OMAHA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社区护理诊断系统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由护理诊断</a:t>
            </a:r>
            <a:r>
              <a:rPr b="1" lang="zh-CN" sz="2800" spc="-1" strike="noStrike" u="sng">
                <a:solidFill>
                  <a:srgbClr val="046ca6"/>
                </a:solidFill>
                <a:uFillTx/>
                <a:latin typeface="黑体"/>
              </a:rPr>
              <a:t>分类系统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、</a:t>
            </a:r>
            <a:r>
              <a:rPr b="1" lang="zh-CN" sz="2800" spc="-1" strike="noStrike" u="sng">
                <a:solidFill>
                  <a:srgbClr val="046ca6"/>
                </a:solidFill>
                <a:uFillTx/>
                <a:latin typeface="黑体"/>
              </a:rPr>
              <a:t>护理干预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分类系统和</a:t>
            </a:r>
            <a:r>
              <a:rPr b="1" lang="zh-CN" sz="2800" spc="-1" strike="noStrike" u="sng">
                <a:solidFill>
                  <a:srgbClr val="046ca6"/>
                </a:solidFill>
                <a:uFillTx/>
                <a:latin typeface="黑体"/>
              </a:rPr>
              <a:t>护理结果评量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系统三部分构成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护士可将评估资料分为</a:t>
            </a:r>
            <a:r>
              <a:rPr b="1" lang="zh-CN" sz="2800" spc="-1" strike="noStrike" u="sng">
                <a:solidFill>
                  <a:srgbClr val="046ca6"/>
                </a:solidFill>
                <a:uFillTx/>
                <a:latin typeface="黑体"/>
              </a:rPr>
              <a:t>环境、心理社会、生理和健康相关行为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四类，并</a:t>
            </a:r>
            <a:r>
              <a:rPr b="1" lang="zh-CN" sz="2800" spc="-1" strike="noStrike" u="sng">
                <a:solidFill>
                  <a:srgbClr val="046ca6"/>
                </a:solidFill>
                <a:uFillTx/>
                <a:latin typeface="黑体"/>
              </a:rPr>
              <a:t>分别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进行分析和整理，以找出该类资料所反映的问题，做出相应护理诊断。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68360" y="1371240"/>
            <a:ext cx="84470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案例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小李是某城郊社区卫生服务中心的一名妇幼保健护士，她在进行产后访视的过程中注意到产后母亲情绪不佳的现象挺常见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问题：作为社区护士，小李应该怎么对待这个现象？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希望达到什么目的？要做什么？怎么做？）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黑体"/>
              </a:rPr>
              <a:t>第三节  社区护理计划</a:t>
            </a:r>
            <a:endParaRPr b="1" lang="en-US" sz="40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304920" y="1731960"/>
            <a:ext cx="861048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制订社区护理目标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制订社区护理计划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计划制订是一种合作的、有顺序的、循环的程序，应鼓励社区居民参与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　　　</a:t>
            </a: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1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．制定社区护理目标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是通过社区护理活动或措施期望达到的结果，可以是功能改进、行为改变、知识增加、情绪稳定等多种呈现形式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包括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基本目标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通常只有一个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具体目标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针对社区的不同需求和不同目标人群，将基本目标分解为若干具体目标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1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．制定社区护理目标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370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目标应做到</a:t>
            </a: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SMART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specific. measurable. attainable. relevant. timely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，即特定对象的、可测量的、可达到的、相关的、有时间期限的，以便于护理计划的落实和护理评价的实施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应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避免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用“能够了解”这样含糊的语句，而是具体描述为“能够确定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/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能够列出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/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能够讨论”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50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选择合适的社区护理措施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确定所需资源及其来源：确定实施者、合作者、所需器材、场地、经费等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为社区护理措施排序：及早执行有效的措施，尽早控制社区健康问题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记录社区护理计划：将确定的诊断、目标和具体措施完整记录下来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评价和修改计划：形成书面计划后，共同探讨及时发现问题并修改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　　　</a:t>
            </a: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2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．制订社区护理计划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323640" y="2906280"/>
            <a:ext cx="8569080" cy="150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黑体"/>
              </a:rPr>
              <a:t>第四节 社区护理计划的实施与评价</a:t>
            </a:r>
            <a:endParaRPr b="1" lang="en-US" sz="40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社区护理计划实施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95280" y="1413000"/>
            <a:ext cx="8424720" cy="48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3200" spc="-1" strike="noStrike">
                <a:solidFill>
                  <a:srgbClr val="046ca6"/>
                </a:solidFill>
                <a:latin typeface="黑体"/>
              </a:rPr>
              <a:t>社区护理计划实施（</a:t>
            </a:r>
            <a:r>
              <a:rPr b="1" lang="en-US" sz="3200" spc="-1" strike="noStrike">
                <a:solidFill>
                  <a:srgbClr val="046ca6"/>
                </a:solidFill>
                <a:latin typeface="黑体"/>
              </a:rPr>
              <a:t>community nursing implement</a:t>
            </a:r>
            <a:r>
              <a:rPr b="1" lang="zh-CN" sz="3200" spc="-1" strike="noStrike">
                <a:solidFill>
                  <a:srgbClr val="046ca6"/>
                </a:solidFill>
                <a:latin typeface="黑体"/>
              </a:rPr>
              <a:t>）是指社区护士根据计划的要求和具体措施，在社会各部门的参与下，充分利用社区资源，对不同的目标人群开展一系列的防治疾病和促进健康的活动。</a:t>
            </a:r>
            <a:endParaRPr b="1" lang="en-US" sz="32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一、计划的实施步骤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pic>
        <p:nvPicPr>
          <p:cNvPr id="174" name="Picture 8" descr=""/>
          <p:cNvPicPr/>
          <p:nvPr/>
        </p:nvPicPr>
        <p:blipFill>
          <a:blip r:embed="rId1"/>
          <a:stretch/>
        </p:blipFill>
        <p:spPr>
          <a:xfrm>
            <a:off x="398520" y="1198440"/>
            <a:ext cx="8397720" cy="475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实施前的准备工作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在实施计划前要再次确认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参与者是否明确计划实施的时间、地点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计划实施者是否知晓服务方法、所需知识和技能、承担的责任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根据团队成员的能力和计划的实施内容进行合理分配和授权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0" y="137124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实施计划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为护理对象营造一种安全舒适的氛围，计划实施地点、环境、设备等均应考虑在内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实施过程中，及时发现和处理出现的各种问题和困难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实施过程中，对每天的活动详细了解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针对干扰因素要重新评估，随时监测、调整、监督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黑体"/>
              </a:rPr>
              <a:t>第一节  社区护理评估</a:t>
            </a:r>
            <a:endParaRPr b="1" lang="en-US" sz="40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完成护理计划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共同完成护理计划：　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加强计划实施者间及计划实施者与参与者间的沟通，建立良好的合作关系，与居委会、民政局、疾病控制中心等其他部门的人员分工协作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　　　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304920" y="1371600"/>
            <a:ext cx="861048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4.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计划实施的质量控制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质量控制指利用一系列的方法和策略保证计划执行过程的质量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质量控制说明计划实施的动态发展过程，而不是计划效果的行为效应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包括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计划是否按时间表执行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实施内容是否与计划相符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实施者的知识、技能是否满足计划需求等。　　　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50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5.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记录实施情况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体现护理的动态性和连续性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及时、准确地记录护理实施的情况、参与对象反应的情况及产生的新需求等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采用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PIO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格式记录：“问题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+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护理措施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+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结果”的书写格式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8920" y="304560"/>
            <a:ext cx="873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二、实施效果评价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773000"/>
            <a:ext cx="861048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一）社区护理评价的分类和内容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过程评价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护理程序的每一个步骤是否恰当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结果评价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护理措施是否最终解决了社区存在或潜在的健康问题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1.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过程评价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对社区护理程序中的五个步骤进行评价，贯穿于社区护理的全过程，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评估阶段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诊断阶段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计划阶段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实施阶段 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评价阶段 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2.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结果评价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结果评价是在计划完成之后，针对护理计划中项目实施效果是否达到预期目标的总评价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近期结果评价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可以短时间看到的指标改变情况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中期结果评价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主要包括行为改变和环境改变情况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远期结果评价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主要包括护理对象疾病及其危险因素的变化和情况、效益评价和成本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效果分析等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　　　（二）社区护理评价的过程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806472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评价活动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得出结论 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重审、修改护理计划 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755640" y="3141360"/>
            <a:ext cx="7772400" cy="89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黑体"/>
              </a:rPr>
              <a:t>第五节 社区健康档案建立与应用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75840" y="259920"/>
            <a:ext cx="8659800" cy="8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一、建立社区健康档案的目的和内容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36680" y="1628640"/>
            <a:ext cx="86868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cc0000"/>
                </a:solidFill>
                <a:uFillTx/>
                <a:latin typeface="黑体"/>
              </a:rPr>
              <a:t>社区健康档案（</a:t>
            </a:r>
            <a:r>
              <a:rPr b="1" lang="en-US" sz="2800" spc="-1" strike="noStrike" u="sng">
                <a:solidFill>
                  <a:srgbClr val="cc0000"/>
                </a:solidFill>
                <a:uFillTx/>
                <a:latin typeface="黑体"/>
              </a:rPr>
              <a:t>community health record</a:t>
            </a:r>
            <a:r>
              <a:rPr b="1" lang="zh-CN" sz="2800" spc="-1" strike="noStrike" u="sng">
                <a:solidFill>
                  <a:srgbClr val="cc0000"/>
                </a:solidFill>
                <a:uFillTx/>
                <a:latin typeface="黑体"/>
              </a:rPr>
              <a:t>）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是记录与社区居民健康有关信息的系统性文件，是社区卫生保健服务中有效的健康信息收集工具。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一）目的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为社区居民提供有效的社区卫生服务。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35120" y="25992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（二）健康档案的内容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95280" y="1773000"/>
            <a:ext cx="86104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根据档案主体，社区健康档案可以分为个人健康档案、家庭健康档案和社区健康档案三种类型。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根据记录材质，社区健康档案可以分为纸质健康档案和电子健康档案。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一、评估范围及内容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4000" y="1371240"/>
            <a:ext cx="7848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社区属性包括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人口群体特征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地理特点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社会系统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16120" y="260280"/>
            <a:ext cx="8076960" cy="70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1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．个人健康档案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557360"/>
            <a:ext cx="861048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是记录居民健康状况的系统性文件，是以居民个人健康为核心，贯穿整个生命过程，涵盖各种健康相关因素，实现多渠道信息动态收集，满足居民自我保健和健康管理、健康决策需要的信息资源。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建档对象：所辖社区常住居民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重点人群：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0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岁儿童、孕产妇、老年人、慢性病患者、重性精神疾病患者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385920" y="1599840"/>
            <a:ext cx="8362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）以问题为导向的健康记录（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</a:rPr>
              <a:t>problem oriented medical record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，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</a:rPr>
              <a:t>POMR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）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内容：封面、患者一般资料、健康问题目录、健康问题描述、健康体检表、重点人群健康管理记录表、其他医疗卫生服务记录表。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395280" y="1219320"/>
            <a:ext cx="8424720" cy="376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cc0000"/>
                </a:solidFill>
                <a:latin typeface="黑体"/>
              </a:rPr>
              <a:t>健康问题目录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记录了过去影响、现在正在影响或将来会影响患者健康的异常情况。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包括主要问题目录和暂时性问题目录，常以列表的形式记录。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采用世界家庭医生组织制订的“基层医疗的国际分类”（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International Classification of Primary Care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，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ICPC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）的命名。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200" spc="-1" strike="noStrike">
                <a:solidFill>
                  <a:srgbClr val="046ca6"/>
                </a:solidFill>
                <a:latin typeface="黑体"/>
              </a:rPr>
              <a:t>例：                          居民主要健康问题目录表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 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7600" y="5157720"/>
          <a:ext cx="8996400" cy="1311480"/>
        </p:xfrm>
        <a:graphic>
          <a:graphicData uri="http://schemas.openxmlformats.org/drawingml/2006/table">
            <a:tbl>
              <a:tblPr/>
              <a:tblGrid>
                <a:gridCol w="1333440"/>
                <a:gridCol w="1333440"/>
                <a:gridCol w="1333800"/>
                <a:gridCol w="1338120"/>
                <a:gridCol w="1333440"/>
                <a:gridCol w="1333440"/>
                <a:gridCol w="990720"/>
              </a:tblGrid>
              <a:tr h="50328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问题序号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诊断日期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主要问题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ICPC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编码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处理情况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处理结果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记录者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2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457200" y="1294920"/>
            <a:ext cx="8229600" cy="514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健康问题描述 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2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采用“</a:t>
            </a: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SOAP”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格式进行描述。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2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S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subjective data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）代表主观资料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2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O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objective data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）代表客观资料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2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A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assessment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）代表对健康问题的评估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2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P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plan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）代表健康问题的处理计划 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457200" y="1294920"/>
            <a:ext cx="8229600" cy="506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以预防为导向的健康记录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包括周期性健康检查记录表和免疫接种记录表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周期性健康检查记录表：包括健康普查、预防接种、健康教育等。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免疫接种记录表：主要针对儿童的计划性或非计划性免疫接种。 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33520" y="11430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2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．家庭健康档案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610480" cy="434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以家庭为单位，对患者家庭的相关资料、家庭主要健康问题进行记录而形成的系统资料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内容：家庭基本资料、家庭评估资料、家庭主要健康问题目录及描述、家庭成员健康记录等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家庭主要健康问题目录及描述  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例：               家庭主要健康问题目录表</a:t>
            </a:r>
            <a:r>
              <a:rPr b="1" lang="zh-CN" sz="2200" spc="-1" strike="noStrike">
                <a:solidFill>
                  <a:srgbClr val="046ca6"/>
                </a:solidFill>
                <a:latin typeface="黑体"/>
              </a:rPr>
              <a:t> </a:t>
            </a:r>
            <a:endParaRPr b="1" lang="en-US" sz="22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    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     </a:t>
            </a:r>
            <a:r>
              <a:rPr b="1" lang="zh-CN" sz="2400" spc="-1" strike="noStrike" u="sng">
                <a:solidFill>
                  <a:srgbClr val="046ca6"/>
                </a:solidFill>
                <a:uFillTx/>
                <a:latin typeface="黑体"/>
              </a:rPr>
              <a:t>以</a:t>
            </a:r>
            <a:r>
              <a:rPr b="1" lang="en-US" sz="2400" spc="-1" strike="noStrike" u="sng">
                <a:solidFill>
                  <a:srgbClr val="046ca6"/>
                </a:solidFill>
                <a:uFillTx/>
                <a:latin typeface="黑体"/>
              </a:rPr>
              <a:t>SOAP</a:t>
            </a:r>
            <a:r>
              <a:rPr b="1" lang="zh-CN" sz="2400" spc="-1" strike="noStrike" u="sng">
                <a:solidFill>
                  <a:srgbClr val="046ca6"/>
                </a:solidFill>
                <a:uFillTx/>
                <a:latin typeface="黑体"/>
              </a:rPr>
              <a:t>的方式加以描述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  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	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 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250920" y="2743200"/>
          <a:ext cx="8734320" cy="1843200"/>
        </p:xfrm>
        <a:graphic>
          <a:graphicData uri="http://schemas.openxmlformats.org/drawingml/2006/table">
            <a:tbl>
              <a:tblPr/>
              <a:tblGrid>
                <a:gridCol w="758880"/>
                <a:gridCol w="1218960"/>
                <a:gridCol w="1220760"/>
                <a:gridCol w="1219320"/>
                <a:gridCol w="1427040"/>
                <a:gridCol w="1683000"/>
                <a:gridCol w="1206360"/>
              </a:tblGrid>
              <a:tr h="392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序号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主要问题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发生日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记录日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ICPC-2</a:t>
                      </a: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编码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SOAP</a:t>
                      </a: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简要描述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处理情况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42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42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2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3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29492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3.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社区健康档案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39640" y="1915920"/>
            <a:ext cx="8229600" cy="39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社区健康档案是记录社区健康问题、评估社区特征及健康需求的系统性资料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内容：社区基本资料、社区卫生服务资源、社区卫生服务状况、社区居民健康状况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35120" y="260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二、社区健康档案的管理与应用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64072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一）健康档案的建立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辖区居民到乡镇卫生院、村卫生室、社区卫生服务中心（站）接受服务时，由医务人员负责为其建立居民健康档案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通过入户服务（调查）、疾病筛查、健康体检等多种方式，由乡镇卫生院、村卫生室、社区卫生服务中心（站）组织医务人员为居民建立健康档案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已建立居民电子健康档案信息系统的地区应由乡镇卫生院、村卫生室、社区卫生服务中心（站）通过上述方式为个人建立居民电子健康档案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统一存放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03240" y="25992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（二）健康档案的管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755640" y="2060280"/>
            <a:ext cx="7732800" cy="326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建立健全健康档案管理相关制度 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有效利用社区健康档案的信息  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加强社区健康档案的监督和考核力度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1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．人口群体特征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71000" y="1371240"/>
            <a:ext cx="8891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人口数量及其分布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要注意人口数量在一定时间范围内的变化趋势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决定社区所需卫生保健服务的需求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人口构成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包括人口的年龄、性别、婚姻、职业、文化程度、籍贯等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不同的人口构成将会导致不同的健康需求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人口健康状况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包括出生情况、死亡谱、疾病谱、健康保健行为等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039320" y="333360"/>
            <a:ext cx="8077320" cy="62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（三）居民健康档案的使用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50920" y="1413000"/>
            <a:ext cx="861048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向已建档居民发放居民健康档案信息卡（或医疗保健卡），就诊时携带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入户开展医疗卫生服务时，应事先查阅服务对象的健康档案并携带相应表单，在服务过程中记录、补充相应内容。已建立电子健康档案信息系统的机构应同时更新电子健康档案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对于需要转诊、会诊的服务对象，由接诊医生填写转诊、会诊记录单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所有的服务记录由社区责任医务人员或档案管理人员统一汇总、及时归档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思考题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名词解释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社区健康档案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个人健康档案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简答题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简述个人健康档案的内容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简述社区健康档案的使用方法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2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．地理特点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2320" y="1628280"/>
            <a:ext cx="8915400" cy="461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了解地理特征对居民生活方式及健康状况的影响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了解居民是否已认识到环境中威胁健康的危险因素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了解是否已采取措施以充分利用社区的资源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社区的基本情况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自然环境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气候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动植物分布情况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人为环境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3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．社会系统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627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一个健康完善的社区应具备的社会系统。这些系统相互关联、相互依靠、相互影响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应评估各系统健全与否、功能是否正常、能否满足居民的需求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pic>
        <p:nvPicPr>
          <p:cNvPr id="118" name="Picture 4" descr=""/>
          <p:cNvPicPr/>
          <p:nvPr/>
        </p:nvPicPr>
        <p:blipFill>
          <a:blip r:embed="rId1"/>
          <a:stretch/>
        </p:blipFill>
        <p:spPr>
          <a:xfrm>
            <a:off x="5003640" y="1844640"/>
            <a:ext cx="356400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3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．社会系统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700280"/>
            <a:ext cx="8610480" cy="454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卫生保健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经济与就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安全与交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通讯与信息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社会服务及福利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娱乐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7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教育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8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政治和宗教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zhjin</dc:creator>
  <dc:description/>
  <dc:language>en-US</dc:language>
  <cp:lastModifiedBy>刘云涛</cp:lastModifiedBy>
  <dcterms:modified xsi:type="dcterms:W3CDTF">2015-08-28T06:45:40Z</dcterms:modified>
  <cp:revision>14</cp:revision>
  <dc:subject/>
  <dc:title>第三章  以社区为中心的护理</dc:title>
</cp:coreProperties>
</file>